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12193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42A7-27EE-4F85-8C23-E32F4F8D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860D-2259-4332-9DB4-2C2A6B0B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F589-EC4B-4E5F-96F8-976A782D1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0165-5E54-4F29-85EA-0488F05CF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7312A-9472-4888-AD28-68CE10F6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5E735-BD83-47AA-B08E-33A87447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6F0C2-78F7-48F6-825F-5934ACFBB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D79A-09E8-41BA-8D39-B9F4B270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2AF47-69DD-49CE-B058-089A3E4CC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74D86-3375-46B8-85BB-E51A609F7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FE902-D77D-4583-AD83-BEF384E50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EDB8-C4B5-45E5-8754-900C12DFE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9A7AC-3750-4DA2-BB17-52304D48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BCE94-9822-4B40-8AD2-D529B2AD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F631-E966-4300-920F-D143486C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CF301-E27C-4844-AD65-2DF7C4DB9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9CB2D-DFA2-4576-A970-38DBD4D18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D182-14A9-412A-B4E3-56AE7B749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125D-14FA-466C-A210-F19E24106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AEB9-A011-45B5-BE38-D9DF1F944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786F7-9901-4EBC-8B40-EB30CFC5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0E0B-93F4-4648-B663-CEBAF2DF1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C81F-7663-4E23-B882-6B044CC0E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A490-2691-4BD0-B255-3B4A9F23A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B382-043A-4EC9-8129-E821BFD05F0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C163-5E49-4A18-9A61-3AC4DDB39E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7"/>
          <p:cNvSpPr/>
          <p:nvPr/>
        </p:nvSpPr>
        <p:spPr>
          <a:xfrm>
            <a:off x="743040" y="434880"/>
            <a:ext cx="0" cy="1390680"/>
          </a:xfrm>
          <a:prstGeom prst="line">
            <a:avLst/>
          </a:prstGeom>
          <a:ln w="648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36F5-A798-4ECA-87AA-E1C650860DC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5C74-14F2-4E32-A777-867B58C7E35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6040" y="1338120"/>
            <a:ext cx="11325240" cy="175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 Black"/>
              </a:rPr>
              <a:t>新教材新课进度计划和分层培优讨论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01400" y="3238560"/>
            <a:ext cx="935028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刘秀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2022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年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5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月</a:t>
            </a:r>
            <a:r>
              <a:rPr b="0" lang="en-US" sz="2400" spc="-1" strike="noStrike">
                <a:solidFill>
                  <a:srgbClr val="404040"/>
                </a:solidFill>
                <a:latin typeface="Arial Black"/>
              </a:rPr>
              <a:t>11</a:t>
            </a:r>
            <a:r>
              <a:rPr b="0" lang="zh-CN" sz="2400" spc="-1" strike="noStrike">
                <a:solidFill>
                  <a:srgbClr val="404040"/>
                </a:solidFill>
                <a:latin typeface="Arial Black"/>
                <a:ea typeface="微软雅黑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43040" y="20271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</a:rPr>
              <a:t>            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</a:rPr>
              <a:t>高中物理新课进度计划</a:t>
            </a:r>
            <a:endParaRPr b="0" lang="en-US" sz="4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7640" y="258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</a:rPr>
              <a:t>分层教学做法和讨论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764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基本根据每个老师所教班级为主按成绩分成三个层次，同时全年级物理统筹安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相对较小，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B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层人数较多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个学期根据年级组分层教学计划次数，提前预估教学进度，做好分层教学专题计划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每次培优根据层次不同，所教内容有所区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备课组先讨论配有内容，相应负责老师出专题，同一份资料，区分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,B,C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三个层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问题：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存在楼层走动和纪律问题 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404040"/>
                </a:solidFill>
                <a:latin typeface="Arial"/>
              </a:rPr>
              <a:t>人数较多，效果有所欠缺，不能很好的达到针对培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5-11T00:47:47Z</dcterms:created>
  <dc:creator>Administrator</dc:creator>
  <dc:description/>
  <dc:language>en-US</dc:language>
  <cp:lastModifiedBy>Administrator</cp:lastModifiedBy>
  <dcterms:modified xsi:type="dcterms:W3CDTF">2022-05-11T01:24:24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8.2.8506</vt:lpwstr>
  </property>
</Properties>
</file>